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D45-15B9-4469-9489-0BB98EC1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977-D41D-4865-A97D-8596E512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7B9-75A8-4937-937D-35E32C65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35D-869F-4DC8-A3E7-88F1E1D8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8651-3FC5-4D16-8B12-C7703569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7986-8FBD-41B6-B2A9-2BFD1B57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2562-E294-406D-8E39-F898CAF2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A446-D3F7-4A17-91E2-1E4510C8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5C9C-820C-4CB4-AB96-46E397A9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406E-182E-40EC-949F-20F5D1F6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71DA-D067-4526-9929-B2D9B4BB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8B0-7BB4-4B4F-9375-E4F26B92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9514-C4A2-4B43-90C9-04D05C3E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A062-1D6F-41A7-B464-FB04B11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DEC7-06C3-4B70-B156-BEE7D230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0DB7-EB70-4539-AA7D-C8BDEAB3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F024-37FE-48C2-B53B-6EDB7582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AF53-5B61-42A2-9476-E124C27C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6E275-E3F6-4A69-A470-6399BF9D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54AE-3947-42A5-9FC0-758CC17D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5D53-D058-4D4D-AC6F-E8C43D80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726F-1813-46F5-9A90-3DA2913D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DC6-4203-4CBA-92BD-081E6CC1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4BE6-58BE-4E04-86CE-1114158F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5F5B-92DE-49C8-9124-54571B27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5140-82BF-4895-ADFE-1D722EF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4D56-C1D1-495A-8924-87ED05B3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D5F1-56F7-4C7A-AFE6-BCE20E1A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EEEB-56FD-4798-B131-5354D68A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D43F-3FCF-4F28-8502-FDDAB31E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1907-5426-4E78-A218-F42A2487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4BCD-66E5-45A8-A9DB-EF758EAA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5C24-3734-4345-929C-A4D07E02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4B2-38DC-4A54-A63D-B13E55D5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8173-7F8B-4434-8FDD-431E8856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2632-F1C5-4F00-B09F-769EBDFA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9D054-479D-44FF-8084-5620F1B4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39761-2988-4282-98F0-E0EBA27D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9287-E3EF-439F-B371-788109E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84BCD-40E4-4703-A066-E9FD5B03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EF2A-5848-4C69-9F80-67FCB22A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C206C-B2AB-4FEB-A090-081BA3B3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F960-1DFF-4344-8161-AD0B0EBC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739-FA0C-47B6-BF9E-540D8271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51C-7B05-41DD-86FB-84E0DD59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DD4-41C1-4F56-81FA-5B7CEB0E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6FB-ED81-4664-9922-13BAC266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286-E462-46B9-BF70-A9AC3971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2621-0F58-415E-8A6A-40D8AE76BF9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83EB-DE30-4819-A200-8AC0A7A8CAC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6C72-08A3-4E8D-923A-61D9E190228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A5F1-CCF3-4775-81E4-7F5275132A1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76104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en-US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ssociation to H2020: major benefits and challenges</a:t>
            </a:r>
            <a:br>
              <a:rPr sz="4500"/>
            </a:br>
            <a:r>
              <a:rPr b="0" lang="en-US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Brussels, 11 June 2019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786800" y="428760"/>
            <a:ext cx="10713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5286240" y="5143680"/>
            <a:ext cx="27147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1600" spc="-1" strike="noStrike">
                <a:solidFill>
                  <a:srgbClr val="002060"/>
                </a:solidFill>
                <a:latin typeface="Constantia"/>
              </a:rPr>
              <a:t>Tatiana MORA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002060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002060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5" descr="Ministerul Educației"/>
          <p:cNvPicPr/>
          <p:nvPr/>
        </p:nvPicPr>
        <p:blipFill>
          <a:blip r:embed="rId1"/>
          <a:stretch/>
        </p:blipFill>
        <p:spPr>
          <a:xfrm>
            <a:off x="8143920" y="5143680"/>
            <a:ext cx="714240" cy="795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EaP PLUS Final Event: EU &amp; Eastern Partnership Science Technology Innovation Cooperation: Beyond 2020"/>
          <p:cNvPicPr/>
          <p:nvPr/>
        </p:nvPicPr>
        <p:blipFill>
          <a:blip r:embed="rId2"/>
          <a:stretch/>
        </p:blipFill>
        <p:spPr>
          <a:xfrm>
            <a:off x="325440" y="954000"/>
            <a:ext cx="237816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61680" y="1145880"/>
            <a:ext cx="8186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ajor benefit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214200" y="1071720"/>
            <a:ext cx="1747800" cy="64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5651640" y="5715000"/>
            <a:ext cx="2376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50920" y="1856880"/>
            <a:ext cx="8393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sociation to Horizon 2020 facilitates the mobility of excellent Scientists, strengthens national research systems, and helps the countries Integrate into the European Research Are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vides rules, procedures, framework and standards to apply for project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Participation in a number of big EU projects, both as partners and coordinators of H2020 project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cess to performant technologies, platforms and  equipment of scientific Centers from abroad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ajor benefit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28600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Financial support to the participation of the Republic of Moldova in the EU programme H2020 for previous year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Europe Days in Moldov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Science Day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Researchers’ Night”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Trainings in different countries for  Moldavian scientists and officer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InfoDays, Workshops,, Consultancie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special grants for  preparation of new EU projects, and other ev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457200" y="1111320"/>
            <a:ext cx="1747800" cy="642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5572080" y="5643720"/>
            <a:ext cx="24289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ajor benefit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clusion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levance of partnership initiatives contributing much to the integration of our R&amp;I system into ERA</a:t>
            </a:r>
            <a:r>
              <a:rPr b="0" lang="ro-RO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ue to their consistency with EU policy objectiv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eation of opportunities for  our actors from R&amp;I secto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ansnational and multidisciplinary collaborations between different actor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ribution to promoting excellence in researc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o-RO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250920" y="928800"/>
            <a:ext cx="1820880" cy="714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5572080" y="5715000"/>
            <a:ext cx="24289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760" y="1285560"/>
            <a:ext cx="821556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000"/>
            </a:br>
            <a:r>
              <a:rPr b="0" lang="en-US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Challen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2960" y="1857240"/>
            <a:ext cx="8043840" cy="35719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earch infrastructur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igning the research infrastructure to the European leve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p research infrastructure in research and innovation institutions and develop the necessary regulatory framework for its development, management and maintenance, avoiding duplicatio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aw up a roadmap for the development of the research infrastructure in the research and innovation system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357120" y="785880"/>
            <a:ext cx="1747800" cy="644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5572080" y="5643720"/>
            <a:ext cx="25002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Challen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285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eate conditions for connecting to the European research infrastructur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 various tools to ensure access to the European research infrastructure through mobility of Moldovan scientific community representatives to the European centres with advanced infrastructur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eate conditions for connecting to the European research infrastructur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ssociate with programs on cooperation with major infrastructures in the regio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643720" y="5715000"/>
            <a:ext cx="24285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324000" y="927000"/>
            <a:ext cx="1747800" cy="642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Challen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0718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 various tools to ensure access to the European research infrastructure through mobility of Moldovan scientific community representatives to the European centres with advanced infrastructur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justing the salary rules inside the projects to the national salary scal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ak participation of private sector in project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RA Chairs 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429160" y="5643720"/>
            <a:ext cx="25718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130320" y="857160"/>
            <a:ext cx="194148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7:06:25Z</dcterms:created>
  <dc:creator>Sergiu</dc:creator>
  <dc:description/>
  <dc:language>en-US</dc:language>
  <cp:lastModifiedBy>ThinkPad</cp:lastModifiedBy>
  <dcterms:modified xsi:type="dcterms:W3CDTF">2019-06-11T04:15:52Z</dcterms:modified>
  <cp:revision>128</cp:revision>
  <dc:subject/>
  <dc:title>Implementarea SRSJ 2014</dc:title>
</cp:coreProperties>
</file>