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A71-9FE1-48A0-85DD-593BBC4F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ABEF-340F-460A-8787-F893E7D1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CDB-F4E2-434A-B09E-E85BB570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563-AFE6-4F52-BDB7-88BD89AF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129A-EC87-4CDA-A780-D71CC23F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3911-FF03-4626-ABAC-EAAD245B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0105-3138-492E-B9F5-387642BF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1297-0B50-468E-BCC0-18814D33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BF33-86DD-481C-A5B2-B84BC2E6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22FA-F353-4BC6-B4DB-D7ECA92B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A03D-E61A-4FCD-897D-B44E48D0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F71-C35B-4D29-967B-67F0B913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A100-5953-48E3-B091-FDD2FD0F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A43B-43AA-42D6-B29B-78E41332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D4FB-BDF1-4C59-867A-E7D4A303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05B7-4E6D-48D4-872A-618F76EE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0CBB-406A-435C-A665-6F3576BC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F301E-F18E-4A39-9826-F455B48C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09870-470E-415F-81E3-8CA8D9DD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86B7C-62FD-4B80-81D3-659604C5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A2A62-EB0B-4580-B744-207E6710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63210-49F4-4259-B884-E4891FD2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723F-D8FA-41D5-B3A4-4DE9D4EA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3D627-D10D-476C-B827-4F0E16D7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52A5B-9035-4A88-8C78-E59152C4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0829D-335C-40E7-8004-85043D8E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DF7B3-1A41-4A2A-8B52-F9C63893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BB6DD-BF0F-4C20-B9DE-845E809D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DC0F3-F319-452E-BDD9-7EB05B09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FC03F-54A1-48BA-8688-537DF233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16A33-BDE4-463F-85A1-97BCF2B7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44E4E-0714-4F5D-98F5-DC09CBA2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86CFD-F70B-4994-8B2C-4571B2F9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DA7-7C36-421C-A9E7-CF89B255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FA762-55B4-4F48-90E4-A4E6E433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9F613-DA09-4902-B6D1-AAC77F73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97D70-0E44-4190-8CCF-5B89FA9F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007A8-DE34-49A8-B3AC-90A26C5E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F02E0-4310-4778-B9DF-AC347ACC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05F43-B346-42EF-B12A-09CE01FE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5082E-B7C3-47F8-B47A-79E75259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DDB0D-9ADA-4D4E-8F65-0FF6B9BA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4D9B3-B75E-4FC3-B83E-7BA8FDEB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B18A-D908-44B8-A88C-5F83A653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8030-7506-4620-89CD-08861293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6F5-0667-4D44-AB60-318F574F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9CA9-2F49-441A-929E-16199ACE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6A4-954F-4264-AC6A-DB12BE66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8E21-A46E-4406-9347-42AD79328E2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A743-3142-4A9D-A75E-B09E2ECFAA8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1FB1-031B-4C1C-99ED-43630EBFBEF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EC2E-F38C-4685-81AC-88062423075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760" y="2142720"/>
            <a:ext cx="76104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en-US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Association to H2020: major benefits and challenges</a:t>
            </a:r>
            <a:br>
              <a:rPr sz="4500"/>
            </a:br>
            <a:r>
              <a:rPr b="0" lang="en-US" sz="2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Brussels, 11 June 2019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786800" y="428760"/>
            <a:ext cx="10713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5286240" y="5143680"/>
            <a:ext cx="27147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en-US" sz="1600" spc="-1" strike="noStrike">
                <a:solidFill>
                  <a:srgbClr val="002060"/>
                </a:solidFill>
                <a:latin typeface="Constantia"/>
              </a:rPr>
              <a:t>Tatiana MORA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002060"/>
                </a:solidFill>
                <a:latin typeface="Constantia"/>
              </a:rPr>
              <a:t>Ministry of Edu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002060"/>
                </a:solidFill>
                <a:latin typeface="Constantia"/>
              </a:rPr>
              <a:t>Culture an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5" descr="Ministerul Educației"/>
          <p:cNvPicPr/>
          <p:nvPr/>
        </p:nvPicPr>
        <p:blipFill>
          <a:blip r:embed="rId1"/>
          <a:stretch/>
        </p:blipFill>
        <p:spPr>
          <a:xfrm>
            <a:off x="8143920" y="5143680"/>
            <a:ext cx="714240" cy="795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EaP PLUS Final Event: EU &amp; Eastern Partnership Science Technology Innovation Cooperation: Beyond 2020"/>
          <p:cNvPicPr/>
          <p:nvPr/>
        </p:nvPicPr>
        <p:blipFill>
          <a:blip r:embed="rId2"/>
          <a:stretch/>
        </p:blipFill>
        <p:spPr>
          <a:xfrm>
            <a:off x="325440" y="954000"/>
            <a:ext cx="237816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61680" y="1145880"/>
            <a:ext cx="81867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Major benefit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Picture 1" descr="EaP PLUS Final Event: EU &amp; Eastern Partnership Science Technology Innovation Cooperation: Beyond 2020"/>
          <p:cNvPicPr/>
          <p:nvPr/>
        </p:nvPicPr>
        <p:blipFill>
          <a:blip r:embed="rId1"/>
          <a:stretch/>
        </p:blipFill>
        <p:spPr>
          <a:xfrm>
            <a:off x="214200" y="1071720"/>
            <a:ext cx="1747800" cy="64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5" descr="Ministerul Educației"/>
          <p:cNvPicPr/>
          <p:nvPr/>
        </p:nvPicPr>
        <p:blipFill>
          <a:blip r:embed="rId2"/>
          <a:stretch/>
        </p:blipFill>
        <p:spPr>
          <a:xfrm>
            <a:off x="8143920" y="5572080"/>
            <a:ext cx="714240" cy="7952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6"/>
          <p:cNvSpPr/>
          <p:nvPr/>
        </p:nvSpPr>
        <p:spPr>
          <a:xfrm>
            <a:off x="5651640" y="5715000"/>
            <a:ext cx="2376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Ministry of Edu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Culture an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50920" y="1856880"/>
            <a:ext cx="8393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ssociation to Horizon 2020 facilitates the mobility of excellent Scientists, strengthens national research systems, and helps the countries Integrate into the European Research Are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ovides rules, procedures, framework and standards to apply for projects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Participation in a number of big EU projects, both as partners and coordinators of H2020 project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ccess to performant technologies, platforms and  equipment of scientific Centers from abroad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Major benefit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28600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Financial support to the participation of the Republic of Moldova in the EU programme H2020 for previous year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Europe Days in Moldov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Science Day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Researchers’ Night”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Trainings in different countries for  Moldavian scientists and officer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InfoDays, Workshops,, Consultancie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special grants for  preparation of new EU projects, and other ev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1" descr="EaP PLUS Final Event: EU &amp; Eastern Partnership Science Technology Innovation Cooperation: Beyond 2020"/>
          <p:cNvPicPr/>
          <p:nvPr/>
        </p:nvPicPr>
        <p:blipFill>
          <a:blip r:embed="rId1"/>
          <a:stretch/>
        </p:blipFill>
        <p:spPr>
          <a:xfrm>
            <a:off x="457200" y="1111320"/>
            <a:ext cx="1747800" cy="642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Ministerul Educației"/>
          <p:cNvPicPr/>
          <p:nvPr/>
        </p:nvPicPr>
        <p:blipFill>
          <a:blip r:embed="rId2"/>
          <a:stretch/>
        </p:blipFill>
        <p:spPr>
          <a:xfrm>
            <a:off x="8143920" y="5572080"/>
            <a:ext cx="714240" cy="7952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0"/>
          <p:cNvSpPr/>
          <p:nvPr/>
        </p:nvSpPr>
        <p:spPr>
          <a:xfrm>
            <a:off x="5572080" y="5643720"/>
            <a:ext cx="24289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Ministry of Edu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Culture an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Major benefit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36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clusion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levance of partnership initiatives contributing much to the integration of our R&amp;I system into ERA</a:t>
            </a:r>
            <a:r>
              <a:rPr b="0" lang="ro-RO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ue to their consistency with EU policy objective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reation of opportunities for  our actors from R&amp;I secto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ransnational and multidisciplinary collaborations between different actor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tribution to promoting excellence in research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o-RO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1" descr="EaP PLUS Final Event: EU &amp; Eastern Partnership Science Technology Innovation Cooperation: Beyond 2020"/>
          <p:cNvPicPr/>
          <p:nvPr/>
        </p:nvPicPr>
        <p:blipFill>
          <a:blip r:embed="rId1"/>
          <a:stretch/>
        </p:blipFill>
        <p:spPr>
          <a:xfrm>
            <a:off x="250920" y="928800"/>
            <a:ext cx="1820880" cy="714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Ministerul Educației"/>
          <p:cNvPicPr/>
          <p:nvPr/>
        </p:nvPicPr>
        <p:blipFill>
          <a:blip r:embed="rId2"/>
          <a:stretch/>
        </p:blipFill>
        <p:spPr>
          <a:xfrm>
            <a:off x="8143920" y="5572080"/>
            <a:ext cx="714240" cy="7952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6"/>
          <p:cNvSpPr/>
          <p:nvPr/>
        </p:nvSpPr>
        <p:spPr>
          <a:xfrm>
            <a:off x="5572080" y="5715000"/>
            <a:ext cx="24289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Ministry of Edu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Culture an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760" y="1285560"/>
            <a:ext cx="821556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000"/>
            </a:br>
            <a:r>
              <a:rPr b="0" lang="en-US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Challeng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42960" y="1857240"/>
            <a:ext cx="8043840" cy="35719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search infrastructur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ligning the research infrastructure to the European leve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p research infrastructure in research and innovation institutions and develop the necessary regulatory framework for its development, management and maintenance, avoiding duplicatio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raw up a roadmap for the development of the research infrastructure in the research and innovation system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1" descr="EaP PLUS Final Event: EU &amp; Eastern Partnership Science Technology Innovation Cooperation: Beyond 2020"/>
          <p:cNvPicPr/>
          <p:nvPr/>
        </p:nvPicPr>
        <p:blipFill>
          <a:blip r:embed="rId1"/>
          <a:stretch/>
        </p:blipFill>
        <p:spPr>
          <a:xfrm>
            <a:off x="357120" y="785880"/>
            <a:ext cx="1747800" cy="644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Ministerul Educației"/>
          <p:cNvPicPr/>
          <p:nvPr/>
        </p:nvPicPr>
        <p:blipFill>
          <a:blip r:embed="rId2"/>
          <a:stretch/>
        </p:blipFill>
        <p:spPr>
          <a:xfrm>
            <a:off x="8143920" y="5572080"/>
            <a:ext cx="714240" cy="7952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7"/>
          <p:cNvSpPr/>
          <p:nvPr/>
        </p:nvSpPr>
        <p:spPr>
          <a:xfrm>
            <a:off x="5572080" y="5643720"/>
            <a:ext cx="25002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Ministry of Edu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Culture an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Challeng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2852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reate conditions for connecting to the European research infrastructure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se various tools to ensure access to the European research infrastructure through mobility of Moldovan scientific community representatives to the European centres with advanced infrastructure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reate conditions for connecting to the European research infrastructure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ssociate with programs on cooperation with major infrastructures in the regio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5643720" y="5715000"/>
            <a:ext cx="242856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Ministry of Edu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Culture an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EaP PLUS Final Event: EU &amp; Eastern Partnership Science Technology Innovation Cooperation: Beyond 2020"/>
          <p:cNvPicPr/>
          <p:nvPr/>
        </p:nvPicPr>
        <p:blipFill>
          <a:blip r:embed="rId1"/>
          <a:stretch/>
        </p:blipFill>
        <p:spPr>
          <a:xfrm>
            <a:off x="324000" y="927000"/>
            <a:ext cx="1747800" cy="642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Ministerul Educației"/>
          <p:cNvPicPr/>
          <p:nvPr/>
        </p:nvPicPr>
        <p:blipFill>
          <a:blip r:embed="rId2"/>
          <a:stretch/>
        </p:blipFill>
        <p:spPr>
          <a:xfrm>
            <a:off x="8143920" y="5572080"/>
            <a:ext cx="71424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Challeng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07180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se various tools to ensure access to the European research infrastructure through mobility of Moldovan scientific community representatives to the European centres with advanced infrastructure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djusting the salary rules inside the projects to the national salary scale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eak participation of private sector in project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RA Chairs 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429160" y="5643720"/>
            <a:ext cx="25718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Ministry of Edu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	</a:t>
            </a:r>
            <a:r>
              <a:rPr b="1" lang="en-US" sz="1400" spc="-1" strike="noStrike">
                <a:solidFill>
                  <a:srgbClr val="115964"/>
                </a:solidFill>
                <a:latin typeface="Constantia"/>
              </a:rPr>
              <a:t>Culture an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" descr="EaP PLUS Final Event: EU &amp; Eastern Partnership Science Technology Innovation Cooperation: Beyond 2020"/>
          <p:cNvPicPr/>
          <p:nvPr/>
        </p:nvPicPr>
        <p:blipFill>
          <a:blip r:embed="rId1"/>
          <a:stretch/>
        </p:blipFill>
        <p:spPr>
          <a:xfrm>
            <a:off x="130320" y="857160"/>
            <a:ext cx="1941480" cy="714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5" descr="Ministerul Educației"/>
          <p:cNvPicPr/>
          <p:nvPr/>
        </p:nvPicPr>
        <p:blipFill>
          <a:blip r:embed="rId2"/>
          <a:stretch/>
        </p:blipFill>
        <p:spPr>
          <a:xfrm>
            <a:off x="8143920" y="5572080"/>
            <a:ext cx="71424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17:06:25Z</dcterms:created>
  <dc:creator>Sergiu</dc:creator>
  <dc:description/>
  <dc:language>en-US</dc:language>
  <cp:lastModifiedBy>ThinkPad</cp:lastModifiedBy>
  <dcterms:modified xsi:type="dcterms:W3CDTF">2019-06-11T04:15:52Z</dcterms:modified>
  <cp:revision>128</cp:revision>
  <dc:subject/>
  <dc:title>Implementarea SRSJ 2014</dc:title>
</cp:coreProperties>
</file>